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D27-8BA0-4BC8-ABA5-A6B9742A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6CF-B5C0-4884-84B8-005A07DC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BE4-19A7-41EE-9863-CAEFF1DA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5D4-E22A-4C67-8655-B05FE1B6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AB8-1556-42A7-B9AE-FF785488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093-0B1D-4D32-905D-36FF25E0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E71-C148-4183-8228-BF5AF44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F28-76C4-431C-9CBF-8BA13C5D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35A-70C9-478C-B3F7-E28D3B57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3BF-6C87-45B3-80FA-D0259155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FBB-A9AD-488C-80AD-15A54C3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656-E05F-4535-B6DD-21F850DE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D43A-258B-4399-BDEA-2F9E29F415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news.sohu.com/85/08/news209680885.s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sohu.com/86/85/news209678586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254160"/>
            <a:ext cx="6985080" cy="660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492280"/>
            <a:ext cx="5832720" cy="173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A CITY OF HER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48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UNIT 7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566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课件制作　　傅国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1389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765000"/>
            <a:ext cx="1872000" cy="4597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628640"/>
            <a:ext cx="7740720" cy="3972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y of St Petersburg was rebuilt by Peter the G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rmans attacked St Petersburg a hundred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rtrait of Peter the Great was destroyed by the Ger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difficult for people to rebuild the old pa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 and painters used old photographs to help them rebuild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Petersburg will never be as beautiful as it w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852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852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7082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952720" cy="525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907920"/>
            <a:ext cx="331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532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39589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Useful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349360"/>
            <a:ext cx="561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smoke, there is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water, there i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440" y="121932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re there is a river, there is 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907920"/>
            <a:ext cx="1858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126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trong, proud and unite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the people of St. Petersburg are modern heroes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70581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ngry and afraid, she didn’t give a rep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 went to bed, cold and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Full of fear, he returned to his c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47628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Tell 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the tex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again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 using about 100 word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19700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052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e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 using about 100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700280"/>
            <a:ext cx="8353440" cy="3781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rank the coffee at one mouthful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 pot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ree hours’ terrible fight, the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g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trol of the top of the hill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disappearance of SARS, some theatres and restaurants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opened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ents are ask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homework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all of us ne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ink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our attitudes toward the public health after S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5661000"/>
            <a:ext cx="727236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Monotype Corsiva"/>
              </a:rPr>
              <a:t>Key: refilled/regained/reopened/redo/re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557360"/>
            <a:ext cx="29527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 through during his lifetime out of a fairy tale in history             in ruins                in pieces         come true       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557360"/>
            <a:ext cx="374508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…back to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ut bac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ith the hel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ook out over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981000"/>
            <a:ext cx="2808360" cy="503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未成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照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正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修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控制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待改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理中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缮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受盘问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讲座中的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125360"/>
            <a:ext cx="4535280" cy="4483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v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...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放回原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使恢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职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代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取代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by, with)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接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赔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【化】置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coal by [with]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用煤气代替煤作燃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borrowed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还借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-the magazines after re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杂志阅后放回原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Can anything replace a mother's love and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什么东西能取代母亲的爱和关怀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125360"/>
            <a:ext cx="4319640" cy="46677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 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恢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恢复意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 复职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辟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放回原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交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修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]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重建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正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校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consc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恢复知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苏醒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his old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复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the book to the sh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把书放回书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an extinct kind of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制作绝种动物的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24000" y="404640"/>
            <a:ext cx="4753080" cy="825120"/>
          </a:xfrm>
          <a:prstGeom prst="rect">
            <a:avLst/>
          </a:prstGeom>
          <a:solidFill>
            <a:srgbClr val="af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3284640"/>
            <a:ext cx="208728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500280"/>
            <a:ext cx="20876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64200">
            <a:off x="1476000" y="4868640"/>
            <a:ext cx="1943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342200">
            <a:off x="758520" y="2179440"/>
            <a:ext cx="1944720" cy="6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13372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2421000"/>
            <a:ext cx="2305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179200">
            <a:off x="5508360" y="4869000"/>
            <a:ext cx="2952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724280"/>
            <a:ext cx="2881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50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kind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78136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2205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ong, proud, un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292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37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cultural re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alaces, paintings,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299200">
            <a:off x="6588000" y="5516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205000">
            <a:off x="6081840" y="564624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140200">
            <a:off x="5569200" y="50382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stroyed by Ger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re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36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06600">
            <a:off x="826200" y="5516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after the Russian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03000">
            <a:off x="1475640" y="49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pt as 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n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3573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ver 3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after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24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built the city and restored it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346400">
            <a:off x="684720" y="1628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when att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482600">
            <a:off x="972000" y="220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ever g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716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64500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78800">
            <a:off x="5866920" y="4365720"/>
            <a:ext cx="432000" cy="215640"/>
          </a:xfrm>
          <a:custGeom>
            <a:avLst/>
            <a:gdLst>
              <a:gd name="textAreaLeft" fmla="*/ 6732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151600">
            <a:off x="2771640" y="4292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722200">
            <a:off x="5435640" y="306828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61200">
            <a:off x="2484000" y="285264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341360"/>
            <a:ext cx="216000" cy="1871640"/>
          </a:xfrm>
          <a:prstGeom prst="upDownArrow">
            <a:avLst>
              <a:gd name="adj1" fmla="val 50000"/>
              <a:gd name="adj2" fmla="val 17249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9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116240" cy="496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48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2708280"/>
            <a:ext cx="6119640" cy="1800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afaaf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141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mercialScript BT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765000"/>
            <a:ext cx="4537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Fill in the blanks according to the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557360"/>
            <a:ext cx="79218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ty is built on th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n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Neva Riv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its center. After the Russi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v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palaces there wer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k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museums. The city w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under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ree months during the Second Word War, but people there didn’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German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uildings and everywhere you could see paintings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at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ie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whole city was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u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fter the war, Russian people began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bu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. They wanted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 back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Now, man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s have bee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pla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ld portraits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cre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city h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t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reams c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00280"/>
            <a:ext cx="865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13372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565360"/>
            <a:ext cx="165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565360"/>
            <a:ext cx="72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299736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2997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3429000"/>
            <a:ext cx="6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3429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3860640"/>
            <a:ext cx="136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292640"/>
            <a:ext cx="107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4292640"/>
            <a:ext cx="792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4724280"/>
            <a:ext cx="792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84640"/>
            <a:ext cx="10810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5084640"/>
            <a:ext cx="7905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5516640"/>
            <a:ext cx="576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5516640"/>
            <a:ext cx="1079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95008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950080"/>
            <a:ext cx="129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6381720"/>
            <a:ext cx="12258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638172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4464000" cy="570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557360"/>
            <a:ext cx="5400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俄罗斯第二大城市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——圣彼得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068640"/>
            <a:ext cx="828180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圣彼得堡１９８８年与中国上海市结为友好城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83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8360" y="1628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WINT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492280"/>
            <a:ext cx="6767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CommercialScript BT"/>
              </a:rPr>
              <a:t>GOODBY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981000"/>
            <a:ext cx="8353440" cy="471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ame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heroes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“A city of Heroes” and “Heroes of a Cit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146376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565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Both Peter the Great and the people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14972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A City of Heroes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a city, where there are many heroes; while 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Heroes of a City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heroes, who live in a city. So the passage tells mainly  about the city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260280"/>
            <a:ext cx="237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836640"/>
            <a:ext cx="51116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 these questions with your part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484280"/>
            <a:ext cx="7634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Some cities, like Paris and Beijing, are called great cities of the world. In your opinion, what makes a city gr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068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852640"/>
            <a:ext cx="7921800" cy="2494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has a long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is usually the capital of a country and has a    larg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will produce many great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ty is great if something important once took pla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3.gif (8366 bytes)"/>
          <p:cNvPicPr/>
          <p:nvPr/>
        </p:nvPicPr>
        <p:blipFill>
          <a:blip r:embed="rId1"/>
          <a:stretch/>
        </p:blipFill>
        <p:spPr>
          <a:xfrm>
            <a:off x="6659640" y="0"/>
            <a:ext cx="68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32000" y="620640"/>
            <a:ext cx="633564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What are your favourite citi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4920" y="155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1484280"/>
            <a:ext cx="7632720" cy="825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What cultural relics are there in the place where you live? How importan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565360"/>
            <a:ext cx="6913440" cy="2859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ample: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tell us who our ancestors were and what their life wa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help us better understand who we are and where ar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show the development of human civ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177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2920" y="260280"/>
            <a:ext cx="2160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052640"/>
            <a:ext cx="5400720" cy="9471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ain ideas of each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98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492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cline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3068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36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sent situation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205000"/>
            <a:ext cx="73080" cy="1800360"/>
          </a:xfrm>
          <a:custGeom>
            <a:avLst/>
            <a:gdLst>
              <a:gd name="textAreaLeft" fmla="*/ 46800 w 73080"/>
              <a:gd name="textAreaRight" fmla="*/ 73440 w 73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782720" cy="303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03280" y="4437000"/>
            <a:ext cx="2376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197000"/>
            <a:ext cx="316728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tyles of the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1413000"/>
            <a:ext cx="863280" cy="28872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92280"/>
            <a:ext cx="144720" cy="1726920"/>
          </a:xfrm>
          <a:custGeom>
            <a:avLst/>
            <a:gdLst>
              <a:gd name="textAreaLeft" fmla="*/ 92520 w 144720"/>
              <a:gd name="textAreaRight" fmla="*/ 145080 w 14472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549360"/>
            <a:ext cx="3672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Narr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记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escrip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描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xposi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说明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Argument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议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80880" y="1052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9072600">
            <a:off x="2484000" y="1699920"/>
            <a:ext cx="3888000" cy="144360"/>
          </a:xfrm>
          <a:custGeom>
            <a:avLst/>
            <a:gdLst>
              <a:gd name="textAreaLeft" fmla="*/ 607320 w 3888000"/>
              <a:gd name="textAreaRight" fmla="*/ 3402000 w 3888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708280"/>
            <a:ext cx="2953080" cy="520560"/>
          </a:xfrm>
          <a:prstGeom prst="rect">
            <a:avLst/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lues of wri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789360"/>
            <a:ext cx="20876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Order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3284640"/>
            <a:ext cx="289080" cy="504720"/>
          </a:xfrm>
          <a:prstGeom prst="downArrow">
            <a:avLst>
              <a:gd name="adj1" fmla="val 50000"/>
              <a:gd name="adj2" fmla="val 43649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3860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781360"/>
            <a:ext cx="289080" cy="25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708280"/>
            <a:ext cx="421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1917 Russian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battle in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Re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St. Petersburg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333360"/>
            <a:ext cx="1368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126828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836640"/>
            <a:ext cx="727380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ich river flows through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y buil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at were the palaces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 Germans attack the 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How long did they attack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id people there give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0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undred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92428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and beautiful , look like something out of a fairy 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86064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8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458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537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they never gave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68360" y="220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0280"/>
            <a:ext cx="7489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do people think St Petersburg is a great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was it so difficult for people to rebuild the old pala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at did people use to help them rebuild the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are the people of St Petersburg her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692280"/>
            <a:ext cx="52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f many important historic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ed the German attack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onderful as it once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492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ly damaged. Few modern Russian artists knew exactly what it looked like and there were many missing parts and pie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4005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ssian artists used old paintings and photos to rebuild St Petersbu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made something impossible possible. They have successfully rebuilt the palaces without destroying their old beau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8:50:41Z</dcterms:created>
  <dc:creator>abc</dc:creator>
  <dc:description/>
  <dc:language>en-US</dc:language>
  <cp:lastModifiedBy>abc</cp:lastModifiedBy>
  <dcterms:modified xsi:type="dcterms:W3CDTF">2003-11-21T06:08:46Z</dcterms:modified>
  <cp:revision>40</cp:revision>
  <dc:subject/>
  <dc:title>幻灯片 1</dc:title>
</cp:coreProperties>
</file>